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3977-8430-4359-919A-B07D4C34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7FA-8ABE-493C-912D-612EACC2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1F42-37D2-45FA-A447-A6765CA6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BE0-B4E6-4FEC-B0D7-4D003E33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F432-041E-438B-89CD-898953AA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09F9-9DCA-465F-8C11-AEB5900E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B044-D0AD-4761-9457-BDC883E1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CFB6-4780-4AE1-BE21-79E313D4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919F-5F48-4716-A4A6-8AE2FFFC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33F4-1155-4041-8A84-C1EF72C2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B549-BFFA-4E0B-8860-520B21D8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6CB-85AF-43E3-AA5F-99DABB31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9FF5-F32A-4A49-B188-73EC583E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D0C7-62BB-4E7C-8E27-0B792980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4372-A836-4F2F-BDA6-3B392198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CC07-C23D-49D2-A320-DB26D7FC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0287-F3A4-4DA0-9D6A-52041EAA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1B31-83A2-4FDB-8546-B6105378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8F4-F5EB-4C83-B70F-102C5DFF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DE58-AB64-4761-BAAC-F7A70E74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9C2F-411C-45A1-A71B-D58E5968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996-653A-481D-BA3D-107D09E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E38-94D3-4F65-8E56-9F99390B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F83-4B49-4A79-8CA8-C3427262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DDA1-DD5E-46FF-9B98-76B6873CC726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B151-6B41-41BF-AC48-6791FB214556}" type="slidenum">
              <a:rPr b="0" lang="ar-SA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08908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b7"/>
                </a:solidFill>
                <a:latin typeface="Arial Black"/>
              </a:rPr>
              <a:t>ESOPHAGUS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the esophagus passes through the diaphragm, it is surrounded by fibers of it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us that forms physiological or functional sphincter of the lower esophageal 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Blood supply</a:t>
            </a: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32108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- Arterial supp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ervical par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erior thyroid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oracic par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ending thoracic aor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igs from bronchial arter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dominal par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ft gastric arte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supplying arteries are interconnected by longitudinal anastomotic chann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99080" y="907920"/>
            <a:ext cx="444492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32108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- Venous draina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ervical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erior thyroid ve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oracic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gos, hemiazygos and accessory hemiazygos vei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bdominal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ft gastric v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32360" y="1413000"/>
            <a:ext cx="402120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.B. the lower end of esophagus is an important site of portosystemic anastomos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Nerve supply</a:t>
            </a:r>
            <a:r>
              <a:rPr b="0" i="1" lang="en-US" sz="40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904760"/>
            <a:ext cx="3889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ympathe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etic trun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arasympathetic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g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444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157720"/>
            <a:ext cx="8385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66"/>
                </a:solidFill>
                <a:uFillTx/>
                <a:latin typeface="Arial Black"/>
              </a:rPr>
              <a:t>Prof. Dr. Shawky Tayel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38560" y="3105000"/>
            <a:ext cx="26668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ESOPHAGU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a muscular tube about 10 inches (25 cm) long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extends from the lower end of the pharynx to the cardiac end of the stoma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lies mainly in the thorax, the uppermost part lies in the neck while the lowermost part lies in the abdom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8080" y="133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esophagus_asco_small.jpg (9284 bytes)"/>
          <p:cNvPicPr/>
          <p:nvPr/>
        </p:nvPicPr>
        <p:blipFill>
          <a:blip r:embed="rId1"/>
          <a:stretch/>
        </p:blipFill>
        <p:spPr>
          <a:xfrm>
            <a:off x="2666880" y="687240"/>
            <a:ext cx="46101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Course</a:t>
            </a: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ervical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begins in the neck opposite the level of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rvical vertebra as a continuation of the pharyn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Thoracic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scends in the thorax through the superior and posterior mediast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Abdominal par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enters the abdomen by passing through the esophageal opening of the diaphragm (level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oracic vertebra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joins the stomach at the cardiac orif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982800"/>
            <a:ext cx="6400800" cy="360"/>
          </a:xfrm>
          <a:prstGeom prst="rect">
            <a:avLst/>
          </a:prstGeom>
          <a:solidFill>
            <a:srgbClr val="9b9b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371600" y="982800"/>
            <a:ext cx="6400440" cy="4740120"/>
            <a:chOff x="1371600" y="982800"/>
            <a:chExt cx="6400440" cy="4740120"/>
          </a:xfrm>
        </p:grpSpPr>
        <p:sp>
          <p:nvSpPr>
            <p:cNvPr id="108" name=""/>
            <p:cNvSpPr/>
            <p:nvPr/>
          </p:nvSpPr>
          <p:spPr>
            <a:xfrm>
              <a:off x="1445760" y="1040040"/>
              <a:ext cx="6252120" cy="4626000"/>
            </a:xfrm>
            <a:prstGeom prst="rect">
              <a:avLst/>
            </a:prstGeom>
            <a:solidFill>
              <a:srgbClr val="9b9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0" lang="en-US" sz="305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71600" y="982800"/>
              <a:ext cx="6400440" cy="4740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0" name="" descr="Esophagus"/>
          <p:cNvPicPr/>
          <p:nvPr/>
        </p:nvPicPr>
        <p:blipFill>
          <a:blip r:embed="rId2"/>
          <a:stretch/>
        </p:blipFill>
        <p:spPr>
          <a:xfrm>
            <a:off x="1143000" y="409680"/>
            <a:ext cx="6264360" cy="60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Relations</a:t>
            </a: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- In the nec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nteriorly;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achea, two recurrent laryngeal nerves (Rt. &amp; Lt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osterior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vertebral column, prevertebral muscles and fas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1050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I- In the thorax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- In the superior mediastin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terior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rachea, left recurrent laryngeal ner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osteriorly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vertebral column, anterior longitudinal ligament and prevertebral musc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right side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zygos vein, right lung and ple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n left si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 thoracic duct, arch of aorta, left lung and ple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esophagus_small.jpg (9807 bytes)"/>
          <p:cNvPicPr/>
          <p:nvPr/>
        </p:nvPicPr>
        <p:blipFill>
          <a:blip r:embed="rId1"/>
          <a:stretch/>
        </p:blipFill>
        <p:spPr>
          <a:xfrm>
            <a:off x="5076720" y="304920"/>
            <a:ext cx="388800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- In the posterior mediastinu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sophagus is closely surrounded by esophageal plexus of nerve formed by both vag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Sites of constrictions of esophagus</a:t>
            </a:r>
            <a:r>
              <a:rPr b="0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432108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beginning (level of 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rvical vertebra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f crossing by aortic ar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 of crossing by left main bronch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it passes through its opening in the diaphrag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39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20:18:44Z</dcterms:created>
  <dc:creator>مهندس / ماجد صفوت يوسف</dc:creator>
  <dc:description/>
  <dc:language>en-US</dc:language>
  <cp:lastModifiedBy>Prof. Dr. Shawky</cp:lastModifiedBy>
  <dcterms:modified xsi:type="dcterms:W3CDTF">2014-04-05T11:46:47Z</dcterms:modified>
  <cp:revision>35</cp:revision>
  <dc:subject/>
  <dc:title>ESOPHAGUS</dc:title>
</cp:coreProperties>
</file>